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00024"/>
        <c:axId val="39535009"/>
      </c:barChart>
      <c:catAx>
        <c:axId val="173000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35009"/>
        <c:crosses val="autoZero"/>
        <c:auto val="1"/>
        <c:lblAlgn val="ctr"/>
        <c:lblOffset val="100"/>
        <c:noMultiLvlLbl val="0"/>
      </c:catAx>
      <c:valAx>
        <c:axId val="395350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000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0A98-20C2-4D09-98E2-678E1E38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3E93-B714-490A-8AFF-7B3A3146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0B9F-4E74-4426-A3BB-B891E782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490-1965-4F16-8FBB-54A2EBCF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885-86E9-4EF0-BDA7-12921816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1E80-4C9A-4587-9379-FB976223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A004-028C-475D-BB37-67EDBE81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048C-0EAD-4167-8696-E19ED865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8C4E-0C34-4721-BD6B-7F054724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ECCA-2564-4335-A651-79A2B94D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3291-92CC-4C83-B989-F5C00F0C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D0CC-DA7F-428D-AE93-EF9CA888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96E07-6952-4D6D-8526-A38C6DE444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