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38902"/>
        <c:axId val="67281968"/>
      </c:barChart>
      <c:catAx>
        <c:axId val="71338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81968"/>
        <c:crosses val="autoZero"/>
        <c:auto val="1"/>
        <c:lblAlgn val="ctr"/>
        <c:lblOffset val="100"/>
        <c:noMultiLvlLbl val="0"/>
      </c:catAx>
      <c:valAx>
        <c:axId val="67281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38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FFD3-88EA-4E36-BCC7-5071B4F8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3181-FB9C-4853-A56E-399630C7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F115-DEBD-4530-9344-C9B28E2D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72E-4FE5-4229-AFA2-925FD627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74E-8525-4F5F-8A2F-E5A9E32A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7E6-17C2-490C-8687-C91B7ED1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365-1FC9-4977-8E99-CEB601AF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8DC-4AB1-4773-AB8F-B2EEDFF7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9B7-566B-4953-A4E3-1E9CAFEC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508-0F8F-4A45-A244-87597FF0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BA4-CFC3-4D07-B9A5-87FDE50B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2FB-453B-42BF-ADEF-8A84B2B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2FFF6-00BD-42CF-A374-087336B6FA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