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865420"/>
        <c:axId val="79026181"/>
      </c:barChart>
      <c:catAx>
        <c:axId val="618654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26181"/>
        <c:crosses val="autoZero"/>
        <c:auto val="1"/>
        <c:lblAlgn val="ctr"/>
        <c:lblOffset val="100"/>
        <c:noMultiLvlLbl val="0"/>
      </c:catAx>
      <c:valAx>
        <c:axId val="790261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654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535A-D7CA-4404-ACC2-56FC3EE79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F308-8459-4DDB-8467-353B9F5C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D433-810F-488A-BA24-F3F31475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EE7F-A464-4001-89DD-DF7463DB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7F32-E46F-4027-8A52-FC9CEC5F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70CB-A16F-412C-9444-81A9DF0C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2C4A-5BD5-4223-AA56-AC77AFEB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8A10-42A0-431D-BED9-BDB67321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191B-B9DD-4A5A-A173-800803A8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17E-0390-4284-84E0-FBA0C565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64B8-A695-42B1-AB49-8ED00CBE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14A1-AC56-4A0B-93AB-C51038E0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D7C4A-F5DE-4822-AF2A-3B80551BC6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