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35236"/>
        <c:axId val="89203677"/>
      </c:barChart>
      <c:catAx>
        <c:axId val="30335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03677"/>
        <c:crosses val="autoZero"/>
        <c:auto val="1"/>
        <c:lblAlgn val="ctr"/>
        <c:lblOffset val="100"/>
        <c:noMultiLvlLbl val="0"/>
      </c:catAx>
      <c:valAx>
        <c:axId val="89203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35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938-BF92-4D0E-BBE7-EE733698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4CF-A459-456B-81A9-E54B32A1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AF0-DC90-4936-8B67-9B97C05C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DA83-B122-4A6D-B2DA-68846CD4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804-5C43-496D-AF90-B9D14256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78F-9DC0-42C0-8775-0DA2D662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7DD-5FB9-4639-AD8B-419F63A4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552-F694-4B16-AC2C-20E04D1F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521-0A28-4784-A0E0-67433666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96A-701F-4AD1-B50B-DB69569A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1F9-C6EE-401F-B795-0685B32F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BF6-3F02-4844-BB73-F337A5CD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0A6FF-A589-4C4F-864C-3169F02731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