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23966"/>
        <c:axId val="92087472"/>
      </c:barChart>
      <c:catAx>
        <c:axId val="53623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7472"/>
        <c:crosses val="autoZero"/>
        <c:auto val="1"/>
        <c:lblAlgn val="ctr"/>
        <c:lblOffset val="100"/>
        <c:noMultiLvlLbl val="0"/>
      </c:catAx>
      <c:valAx>
        <c:axId val="92087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3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1A1-EBCD-428A-9B07-F5F3D4FB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75D-432F-433C-B582-974030A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B2A-3EEB-433A-B0A0-607CB07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A31-CB68-48C1-9298-C5CCEA3E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468-9B4E-4DF7-95FD-3517987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084-1EED-4D09-8AB4-3EA7A45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82E-E7A6-4588-AA6C-7971E639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E73-DC31-4B0C-BD38-682C12C2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6C1-9CB8-4838-9E01-F52D77F6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074-CDB1-4214-879F-18F44EA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C26-20DB-4E9B-BC57-F510564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7D8-2C90-4170-8666-8AC134B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85D40-4FD2-427A-8F17-2B8B28E338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