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84265"/>
        <c:axId val="90493325"/>
      </c:barChart>
      <c:catAx>
        <c:axId val="74884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93325"/>
        <c:crosses val="autoZero"/>
        <c:auto val="1"/>
        <c:lblAlgn val="ctr"/>
        <c:lblOffset val="100"/>
        <c:noMultiLvlLbl val="0"/>
      </c:catAx>
      <c:valAx>
        <c:axId val="90493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84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C4E-085A-45A2-8846-FA2E3CE0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6916-FD76-4A89-AAC3-557F6BD7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B48-186C-482B-95AA-82D0FD54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665-0B4B-43D1-AEB7-3ABD4F69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32F9-5878-4B52-B1DE-428641D0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1E4-BBF8-4438-807F-4CC62BE3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221-3D17-47E0-A114-6A839E6D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BDF-5C84-4966-A1AB-AE48DFE0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478-4889-4CC8-B874-ED35107E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291-3AB9-4391-8AF2-4500710D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9CAD-F135-47BF-BA32-31BC7806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9A49-9BD8-42E8-8A93-5AFDF750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0965C-0282-4FAC-AD40-4FA46672EF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