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374424"/>
        <c:axId val="65076861"/>
      </c:barChart>
      <c:catAx>
        <c:axId val="763744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76861"/>
        <c:crosses val="autoZero"/>
        <c:auto val="1"/>
        <c:lblAlgn val="ctr"/>
        <c:lblOffset val="100"/>
        <c:noMultiLvlLbl val="0"/>
      </c:catAx>
      <c:valAx>
        <c:axId val="650768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744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6AA-F02D-418D-8D0A-0B6D8871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FAE-9A4D-4577-8CA5-3FC2B89E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7BD-5A77-4764-A4D4-ADE80F2A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731-0D12-4F7E-BC6F-527DD116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355-D46A-4DA9-B605-C3277506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6E0-D76B-4B2A-B756-8B85AE2A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4B0-CC52-4641-AF23-F86D342E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FEB4-EE09-4F31-A3EF-D7CA775F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9A02-6B48-4B85-9948-671275DC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B806-EE93-4CEC-BF5B-1EAE2FDB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6CD8-FCD9-44B2-A715-BF2A837F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6EB-46C6-4472-A4B6-AA1E66D6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36732-83FE-4041-82A6-27256A3CB3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