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37993"/>
        <c:axId val="29597961"/>
      </c:barChart>
      <c:catAx>
        <c:axId val="36437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97961"/>
        <c:crosses val="autoZero"/>
        <c:auto val="1"/>
        <c:lblAlgn val="ctr"/>
        <c:lblOffset val="100"/>
        <c:noMultiLvlLbl val="0"/>
      </c:catAx>
      <c:valAx>
        <c:axId val="29597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37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687-4797-45EC-8C8C-3E004A2E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6AA-CC34-4774-A12F-89142DEA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4CD-A991-47C6-84B7-2CF08B94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12F-489A-4D95-B767-6CC8C2B9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ABD-0ED5-4BA4-AD39-301E4CE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40A-A7BD-4F95-A070-12353BF6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BAB-9DF2-4F41-8FEE-2514C97A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D8B-0CE5-417C-A3A9-6C36ECD4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33E-8F6D-44AA-8530-46AD32DF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9B9-9FC5-4324-9391-93D65A05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B93-A481-4F1E-9A7D-758D499A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DA7-8829-4787-8821-C4F8C9FA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C86FB-3A2E-46EE-9D3B-BB9EBFE351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