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98896"/>
        <c:axId val="59980847"/>
      </c:barChart>
      <c:catAx>
        <c:axId val="32098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0847"/>
        <c:crosses val="autoZero"/>
        <c:auto val="1"/>
        <c:lblAlgn val="ctr"/>
        <c:lblOffset val="100"/>
        <c:noMultiLvlLbl val="0"/>
      </c:catAx>
      <c:valAx>
        <c:axId val="59980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98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D06-633F-4D61-BDC8-1FEDBEFC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9D5-AA90-4E0E-A083-5B7376B2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37D-BEB4-46E1-92B2-A08CBF73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0CD-D14F-4961-907C-95FBB038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DC2-451C-40CA-A91E-6F0754E8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7EF-DB70-4B45-B9FE-FF045D78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F8E-3508-459F-8A5F-80A50F97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C5C-3ADF-46EE-BC44-331F192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FE4-A24F-458F-9CFA-54A1F0CB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153-5BA4-4125-AC5A-F8CC2B54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B15-2B58-4198-82AC-7C109AC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AC9-8EBF-4298-AAC9-31C44CA1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D7904-11A5-4CE1-B072-1FC0E5CB9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