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0539"/>
        <c:axId val="27393401"/>
      </c:barChart>
      <c:catAx>
        <c:axId val="27030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3401"/>
        <c:crosses val="autoZero"/>
        <c:auto val="1"/>
        <c:lblAlgn val="ctr"/>
        <c:lblOffset val="100"/>
        <c:noMultiLvlLbl val="0"/>
      </c:catAx>
      <c:valAx>
        <c:axId val="27393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0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DFD-EFD1-4E5B-89C0-6D48CF18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2AC-7F6C-4D03-B724-7D79B00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19B-6290-4026-A45D-C470F3FD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97E-6955-4FDF-8976-ADD8D1E1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76C-F1D9-4183-AEF7-8ED7EDA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DC1-A076-4F1B-8D7E-6C436BB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619-6AD9-407A-AD0E-E035768C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B6D-ED3B-45B0-A9F9-8497C119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FDF-04B7-41E2-9FCA-A08D39F6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D8A-1D00-4519-9AE8-4EEAE69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82C-0807-4E7A-86F4-398C02A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A8D-C4C8-4EAE-96D0-F9DBD76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1951B-5C87-4721-87CE-8285B9D89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