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0249216"/>
        <c:axId val="32556856"/>
      </c:barChart>
      <c:catAx>
        <c:axId val="4024921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2556856"/>
        <c:crosses val="autoZero"/>
        <c:auto val="1"/>
        <c:lblAlgn val="ctr"/>
        <c:lblOffset val="100"/>
        <c:noMultiLvlLbl val="0"/>
      </c:catAx>
      <c:valAx>
        <c:axId val="3255685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024921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36D2D-CC61-4F2F-A54D-311AE9437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2242D-9870-4AC5-9415-F42BB39B7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DC8C2-AE3F-4C4D-B271-D74012145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20256-663F-47DB-B7A0-0F13BDB09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75AAA-1CA3-4558-BB06-FDB06B176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41334-1889-489C-8544-0902E999E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37DFA-C455-4697-83E2-1C96061AE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C2A22-86DE-4BDC-A084-04E8232B5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3707C-45F2-4F6D-AC6C-A14066550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96355-C974-4AB7-9B4B-E24D914A1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9F349-7563-4E6C-BD03-302434643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044CA-EB5D-4704-A7AF-14DD36EC0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57009C-991D-494B-B65B-8A07BF5A0B3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