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570269"/>
        <c:axId val="18843176"/>
      </c:barChart>
      <c:catAx>
        <c:axId val="69570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43176"/>
        <c:crosses val="autoZero"/>
        <c:auto val="1"/>
        <c:lblAlgn val="ctr"/>
        <c:lblOffset val="100"/>
        <c:noMultiLvlLbl val="0"/>
      </c:catAx>
      <c:valAx>
        <c:axId val="18843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570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6C4A-A495-45A8-BA5A-DEC2D002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C7A0-39D9-41BA-ABCA-50985A51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A0B-7053-4A0E-8D79-09B20C3E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D2E-375D-4AEC-AC73-1F2194D04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2D77-55F2-49AD-A3E7-DD3D3BD4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134-18A7-4793-8394-C1355754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BD9-1BA0-4C8B-B74E-1767F552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6A0-9791-473D-BCEC-6B25619E0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C439-7B00-4692-A8D6-28F3F6506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2A65-BEE0-4CA2-97BF-FEB0AEFE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BF3A-3851-47D8-8DAF-5DB49EEC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B2E8-1172-429F-8D6A-DC17DEBE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BF31E6-12AE-4F9E-9F97-0F74ADDA37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