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76476"/>
        <c:axId val="65879292"/>
      </c:barChart>
      <c:catAx>
        <c:axId val="45876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79292"/>
        <c:crosses val="autoZero"/>
        <c:auto val="1"/>
        <c:lblAlgn val="ctr"/>
        <c:lblOffset val="100"/>
        <c:noMultiLvlLbl val="0"/>
      </c:catAx>
      <c:valAx>
        <c:axId val="65879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76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A6D-B951-4B85-9F01-FB9B4EDD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BC1-2E2B-4F32-8ABB-3C81130A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6E7-1D4D-44FF-B061-3FFFD04F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3D0-5F9E-4321-B4EE-2E6766A7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E34-5439-4AB3-99CE-8AB5D59B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3B7E-845A-412C-8339-D496F9F4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D21A-48B3-4A29-9D76-79F2499C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0AF-6245-49C5-B59F-9305C72F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401-6ED8-473C-8931-41E44F0B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510-353F-45FF-A5EC-3D3598DE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DE0-070B-4610-90ED-21727017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D42-C7FD-4859-B39F-7C1A2B2F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F6D74-F9BE-4222-BB85-70E146FA0B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