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93871"/>
        <c:axId val="47734484"/>
      </c:barChart>
      <c:catAx>
        <c:axId val="44093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34484"/>
        <c:crosses val="autoZero"/>
        <c:auto val="1"/>
        <c:lblAlgn val="ctr"/>
        <c:lblOffset val="100"/>
        <c:noMultiLvlLbl val="0"/>
      </c:catAx>
      <c:valAx>
        <c:axId val="47734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93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514-3D97-4A9F-8838-69B1671D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592-322C-48CB-8311-A01341DB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A12-F117-4E9C-80A6-523BF5CA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072-24C1-4F0B-9BDA-545FA815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7A8-AD6D-475A-83D7-D3F829C6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AD3-9823-4F63-9809-99FAD6BD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64D-7BBE-47F5-8662-496A2872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9E0-71CF-40FA-B4C4-B23F5D82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F41-E53D-434B-BBFA-8D6F67D5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6C4-CB7A-429F-A139-7F6BFF9E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A45-E158-4207-9014-97F5112C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6D0-F321-4A16-8B68-377408AB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5C8C2-5384-451C-A7F0-4F381AC435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