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126840"/>
        <c:axId val="84106531"/>
      </c:barChart>
      <c:catAx>
        <c:axId val="411268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06531"/>
        <c:crosses val="autoZero"/>
        <c:auto val="1"/>
        <c:lblAlgn val="ctr"/>
        <c:lblOffset val="100"/>
        <c:noMultiLvlLbl val="0"/>
      </c:catAx>
      <c:valAx>
        <c:axId val="841065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268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8162-5D40-4CAD-B912-C4296C0B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0ED-0D5D-486D-BE87-88D99C43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E60-D411-4E09-B6CE-43A35078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EE92-8BFF-4995-8616-425D08E0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E790-4DF9-4B75-9DBA-44787A4C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9638-A8CE-4250-B909-63025121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39F2-76E8-4EA4-99FE-9F2DA033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A8E4-A4A2-4CF7-B133-AD681BB9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068-E088-4E10-8FB5-0CF9E7BC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4CA5-B8F8-4B8B-9F7F-6DB6D8A0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BF85-35CC-413B-9EA9-72DD9FC4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41C-1343-4716-B1D4-E335FFDC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58C5F-B5BE-4686-BDD1-BDF3710E7F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