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29253"/>
        <c:axId val="87232078"/>
      </c:barChart>
      <c:catAx>
        <c:axId val="22829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2078"/>
        <c:crosses val="autoZero"/>
        <c:auto val="1"/>
        <c:lblAlgn val="ctr"/>
        <c:lblOffset val="100"/>
        <c:noMultiLvlLbl val="0"/>
      </c:catAx>
      <c:valAx>
        <c:axId val="87232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29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1FA-D632-4269-9D2D-E5568F36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CE8-7973-4CB9-8AF8-71C4EA62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066-BD10-4FFC-B325-FABC4E91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422-52CD-49C4-B548-AE9090B4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2CDC-F6BB-41C4-A2C1-1058CFA3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BE5-DF4B-4176-85EF-723816C9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81E-B176-499E-AEE1-A44E89B4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12B-47CB-43AF-946D-F8D3EDBC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D32-030A-4453-8509-D0FC468D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A0F-91F2-4DE6-BC2E-0FCC3C9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6DA-E458-4648-A951-80C2E87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62A-F49D-4B07-A5C3-BB5EC1C1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71B9A-67ED-4CD0-8592-8CD01D085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