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02119"/>
        <c:axId val="55162551"/>
      </c:barChart>
      <c:catAx>
        <c:axId val="20502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2551"/>
        <c:crosses val="autoZero"/>
        <c:auto val="1"/>
        <c:lblAlgn val="ctr"/>
        <c:lblOffset val="100"/>
        <c:noMultiLvlLbl val="0"/>
      </c:catAx>
      <c:valAx>
        <c:axId val="55162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2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35F-254E-4D5A-92D9-982506DD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345-9048-44B5-91AF-D965699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EC7-9311-41B3-93D7-56A90FD7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674-AF26-4ED3-979E-74649314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839-3D2E-46F6-B0EC-8983C228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28D-211A-4B12-AD00-B7E6C42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9E2-C757-43E9-B560-0CE03C4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3B7-A057-458C-A0D4-1C60437C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251-D1D9-4419-B24E-F81BB9C9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ADB-CECC-4DDD-9E99-69207D4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909-4326-44DD-9D6B-78C9F4B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2C7-B6A6-4C16-8435-04114D1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74C7B-88C6-4F3C-8ED1-D4AA8ED9B7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