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375875"/>
        <c:axId val="26768162"/>
      </c:barChart>
      <c:catAx>
        <c:axId val="153758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68162"/>
        <c:crosses val="autoZero"/>
        <c:auto val="1"/>
        <c:lblAlgn val="ctr"/>
        <c:lblOffset val="100"/>
        <c:noMultiLvlLbl val="0"/>
      </c:catAx>
      <c:valAx>
        <c:axId val="26768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758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88F-3AD4-4120-8197-00582781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EAA-DB7A-4049-ABF6-21534D19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510-6AFE-4118-A214-6160246D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7D68-DCB6-4CB3-86AB-48C5DBE5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B060-8220-4018-8071-EAB2AECD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1EF-6E2E-43FF-9C98-4784B948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8AA-D05A-41C2-A6C0-E37E3882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DD7-39C2-4022-A493-0AAC08DA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30D-A746-464F-A342-AE8F784C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6DB1-8E23-4CE0-81E7-82BCB342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B3B-A2CA-4AEA-98DA-790CC104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260-6071-482B-93B0-82C82CCE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50318-5B7C-4AD4-95FE-30F2512D05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