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48915"/>
        <c:axId val="26518760"/>
      </c:barChart>
      <c:catAx>
        <c:axId val="82748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18760"/>
        <c:crosses val="autoZero"/>
        <c:auto val="1"/>
        <c:lblAlgn val="ctr"/>
        <c:lblOffset val="100"/>
        <c:noMultiLvlLbl val="0"/>
      </c:catAx>
      <c:valAx>
        <c:axId val="26518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8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F10-5F24-4A02-8491-E0D673D6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EF5-C7C6-4C8F-BEB7-D7303B36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B90-CF1D-4FCA-93DD-098738F2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362-F9C1-455A-8928-8BCBFCF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6A6-4334-43AB-A7FF-26BB4C7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AD3-706F-4D92-A998-5CF380D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F81-28E5-4216-93E1-2E377DB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E7C-C29D-4BFB-8637-097A0E7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072-24E7-4685-954A-C068A992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3B7-EBB5-431D-8391-A6E1B10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F85-7CEB-4724-B696-EA80A9D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7FB-BA51-4966-910B-B667D8E2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AAE17-4055-4AC2-BA76-C49273270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