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400506"/>
        <c:axId val="76881423"/>
      </c:barChart>
      <c:catAx>
        <c:axId val="964005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881423"/>
        <c:crosses val="autoZero"/>
        <c:auto val="1"/>
        <c:lblAlgn val="ctr"/>
        <c:lblOffset val="100"/>
        <c:noMultiLvlLbl val="0"/>
      </c:catAx>
      <c:valAx>
        <c:axId val="768814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4005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4BED-6959-4F04-B08F-89289D7AC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8C99-2519-4AE6-9816-69C0085F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68AF-290C-4E6E-9A32-DE21E4568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762A-EE5E-4CF7-8B40-7D8801783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9346-933D-4508-AD97-E6A3A94C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9C80-A9B0-4FF6-B8A0-72FDEB08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8F43-FC24-4FCB-B9EC-563197C3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F257-573A-48F0-B69D-BEBA3E8D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8B67-4A33-4122-8612-79A17B28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0828-D48E-4754-95EE-6573CA6F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6CAF-F444-471F-8BDA-8FC2C9B5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5526-2312-4B7A-A7BA-99CF2ECD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9FCA91-27B1-4C4A-B62A-6686C0FFBA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