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03078"/>
        <c:axId val="33943442"/>
      </c:barChart>
      <c:catAx>
        <c:axId val="52803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43442"/>
        <c:crosses val="autoZero"/>
        <c:auto val="1"/>
        <c:lblAlgn val="ctr"/>
        <c:lblOffset val="100"/>
        <c:noMultiLvlLbl val="0"/>
      </c:catAx>
      <c:valAx>
        <c:axId val="33943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3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A23-0F46-4B13-B386-8A5EB103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406-F8CE-414B-84A4-64B019C7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3DB-6657-403E-88B2-7AB71F1C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383-C495-41C3-AE45-E8CEBDAB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E36-AB19-4142-AE34-8FC172B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E2A-F8A2-47E4-8EAB-A9F2399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1A2-99A6-4057-AA02-0C6B1C47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58F-7AB1-4329-B407-3F8E0A5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788-96FF-4945-8217-C0D590C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48E-26DC-43A6-9DB5-706596A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1AC-7E03-4390-AA1D-CFADBB6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F08-E06F-405E-A0FA-4B0E431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0FA57-62FC-44BB-90B9-11C2958112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