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55538"/>
        <c:axId val="47811578"/>
      </c:barChart>
      <c:catAx>
        <c:axId val="29955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11578"/>
        <c:crosses val="autoZero"/>
        <c:auto val="1"/>
        <c:lblAlgn val="ctr"/>
        <c:lblOffset val="100"/>
        <c:noMultiLvlLbl val="0"/>
      </c:catAx>
      <c:valAx>
        <c:axId val="47811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55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082-335E-4C12-AC3F-ADB76044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F57-F6B0-4BE7-9111-92D2BB01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2F89-87A5-4DE4-ADFB-F37AAA1B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D5C-89D3-4237-BEE9-E73A6D8A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9490-E456-4D72-8940-06955B71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877-BAF7-44C2-9436-83B26422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A4E-8960-44DD-83F1-F0027591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2ADB-AFD1-4DCC-8C42-D7050FAC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E97F-363B-4228-9BCB-64D53963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A15-6236-494B-9B52-E53DD040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8D90-A6E9-40F0-8C38-5CDC4517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A10-7B6D-4CBD-9E1B-23DC08A0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F1C8A-E052-4D34-8BEB-86445B6921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